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457-01C1-4054-86DA-111FCB2B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A8E-E702-46AC-B580-2D892633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DC2-48F2-4FA3-8E35-10754B1C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761-C6BE-4D5F-8F47-0D9CFF3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6EC-7752-473E-9E43-65E14567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5D8-A3C1-4A86-87FF-12F2195F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28F-1C80-42BA-9B09-792A2A1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4AC-CD3A-4B72-B7AF-97BD6BE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F23-CC5D-4AA4-8550-9645AF8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531-3967-4679-A6A1-162628B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868-D519-4A46-9897-438BD9C1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7AE-7EE3-4725-B261-F854976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AC8-79AF-4C4F-8FB0-FF8DA8E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3FD-AA26-44A8-875D-ED2A304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125-7974-447F-9AA4-2AD970F1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(Intro to Biology), Part 3 Notes – 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owoc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0007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arkthoughtnov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milingeinstein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000734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base their questions up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 information has been collect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is an important ste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 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questions can we ask about the behavior that we observed with the Japanese Maca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apmac2"/>
          <p:cNvPicPr/>
          <p:nvPr/>
        </p:nvPicPr>
        <p:blipFill>
          <a:blip r:embed="rId1"/>
          <a:stretch/>
        </p:blipFill>
        <p:spPr>
          <a:xfrm>
            <a:off x="1371600" y="2496960"/>
            <a:ext cx="64771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y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tested explanation that unifies a broad range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t’s form a hypothesis about why our Japanese Macaques are exhibiting thi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sure that this is a testable hypothe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igation of a phenomenon in a controlled setting to test a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’s look at a new experi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tist observes that grass grows taller in the part of his lawn right next to the sprink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ass is given extra water, then it will grow tal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 organized way of using evidence to learn about the natur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body of knowledge scientists have built up over the years using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rol Group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used for compar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Group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roup exposed to the variable that is being t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actor that can affect the outcome of a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light, disease, etc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t 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ed variable; what is changed by the experim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ount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ent 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able that is measured; the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nge in height of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/variable that doesn’t change during an experi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some constants in our grass experim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grass-growth-at-10-days"/>
          <p:cNvPicPr/>
          <p:nvPr/>
        </p:nvPicPr>
        <p:blipFill>
          <a:blip r:embed="rId1"/>
          <a:stretch/>
        </p:blipFill>
        <p:spPr>
          <a:xfrm>
            <a:off x="2286000" y="33526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4: Perform an Experiment/Gath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ined from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titative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ical data (measurements of time, temperature, length, mass, area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ative Dat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s of what our senses det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Analyze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hat scientists 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y hypothesis been support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re data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fferent procedures needed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work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dat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good tools for data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graphs"/>
          <p:cNvPicPr/>
          <p:nvPr/>
        </p:nvPicPr>
        <p:blipFill>
          <a:blip r:embed="rId1"/>
          <a:stretch/>
        </p:blipFill>
        <p:spPr>
          <a:xfrm>
            <a:off x="4952880" y="16002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port their conclusions and findings in scientific journals (peer-reviewed jour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examples can you think o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over_nature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s"/>
          <p:cNvPicPr/>
          <p:nvPr/>
        </p:nvPicPr>
        <p:blipFill>
          <a:blip r:embed="rId2"/>
          <a:stretch/>
        </p:blipFill>
        <p:spPr>
          <a:xfrm>
            <a:off x="3048120" y="2819520"/>
            <a:ext cx="298584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theLancetHealth"/>
          <p:cNvPicPr/>
          <p:nvPr/>
        </p:nvPicPr>
        <p:blipFill>
          <a:blip r:embed="rId3"/>
          <a:stretch/>
        </p:blipFill>
        <p:spPr>
          <a:xfrm>
            <a:off x="6138720" y="28195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m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r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urther research is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for fun!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ol behaviors exhibited by Japanese Maca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Japanese+Macaque+Monkeys+Relax+Hot+Springs+JLoDCv8qWdWl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91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apanese+Macaques+Bathe+Hot+Springs+N0VHA8PxkQJl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build snowballs for fu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6a00d8341c630a53ef012876d15483970c-600wi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1246239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ccept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er review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y which the procedures used during an experiment and the results are evaluated by other scient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(Meter, gram, liter,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is Always Chang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Ast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at HOT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14680" y="1371600"/>
            <a:ext cx="4383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 and his heliocen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116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657600" cy="2751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51160" y="53341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Ge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36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96000" y="57913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eli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and Human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cience to inform decisions about health care, environmental poli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science’s major discoveries have been considered controversial b/c they call into question certain belief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eth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loning, stem cell research,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71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make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6248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observations can you make about this image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99635aa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vs. I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serv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gathering information in an orderly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information from the five s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erence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at you know with what you have learned and beginning the process of making logical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’s practice making observations with some new ima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airy-he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31:37Z</dcterms:created>
  <dc:creator>Beth</dc:creator>
  <dc:description/>
  <dc:language>en-US</dc:language>
  <cp:lastModifiedBy>Windows User</cp:lastModifiedBy>
  <dcterms:modified xsi:type="dcterms:W3CDTF">2015-09-09T16:45:52Z</dcterms:modified>
  <cp:revision>19</cp:revision>
  <dc:subject/>
  <dc:title>The Characteristics of Life</dc:title>
</cp:coreProperties>
</file>